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B61-0FE9-4E9D-8584-F235CBC9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58A-DCC3-4AB8-9A4E-FA570808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170-5AEC-4047-9368-ACB02BB6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6ED-C69A-4CBD-B8EA-B9BFBFF4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B3B4-83BF-4D5E-A892-358968D8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2313-5148-4086-9BF0-DE04CE20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48B9-4EA9-43B3-A5AC-4C6C2672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5111-350A-4C71-BA49-7742DD5B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A846-1766-4C99-BDF1-4ACD326A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8260-62E2-4682-AAD6-FAC4B5D1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F89F-49E3-43DC-8FDF-E06A6F49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602-6099-4986-A27C-CA1F59D7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EB27-B334-43E3-95A6-5C55792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F88B-FEDC-4F6A-AFDC-DBFC69A1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4FFA-BF99-41A9-89D1-7B1563FC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2D2C-347C-4254-B34B-62160062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D38D-5B88-4BF1-B89C-F2ED0DC7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C3E-8378-4A69-AF65-DD823598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649-9F15-4F7A-95EE-182E09D3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68B6-8161-4BA2-B7D4-18828713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6F1-0285-4F7B-949F-4B7C8FE2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28F-F0CF-4952-B326-16CFE074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089-E803-4F37-9C61-41BF7BEC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19A-E6DC-44BD-9F66-E7BC1438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ED1F-D498-455D-A35D-573407DAF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B674-1DEB-4DAE-BFA0-72D63FE23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Courier New"/>
              </a:rPr>
              <a:t>What we are doing to save the Murray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Funding nearly $3 000 000  from the gov. for a project to save the Murr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58920" y="4653000"/>
            <a:ext cx="5618160" cy="792000"/>
          </a:xfrm>
          <a:prstGeom prst="rect">
            <a:avLst/>
          </a:prstGeom>
          <a:solidFill>
            <a:srgbClr val="00808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66"/>
                </a:solidFill>
                <a:latin typeface="Arial"/>
              </a:rPr>
              <a:t>Project includ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0:42:09Z</dcterms:created>
  <dc:creator>Primary School</dc:creator>
  <dc:description/>
  <dc:language>en-US</dc:language>
  <cp:lastModifiedBy>Primary School</cp:lastModifiedBy>
  <dcterms:modified xsi:type="dcterms:W3CDTF">2009-06-24T00:52:51Z</dcterms:modified>
  <cp:revision>2</cp:revision>
  <dc:subject/>
  <dc:title>What we are doing to save the Murray</dc:title>
</cp:coreProperties>
</file>